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1D6-8AA6-4A13-B68F-AD8E0CD8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B50-A183-4307-B0FE-764B7AC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4EC-152A-4461-9A9B-C4AC0251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C16-E46A-45BA-BE28-FCBBE633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97CF-8C75-424F-AF4D-CCBF3D16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6FB6-8FE5-48AD-9FA2-861451B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4F1-B8F1-44DA-8CC2-A2A0366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DC97-CE63-4FCD-81C5-6CC1EF61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A8C-C09C-4213-A569-A44720BC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01A-2484-40A3-8B9E-71AEF80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6498-EE35-4536-9608-7DDC191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F96-9F56-486E-8E1C-CD6F49FB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DD1-49CE-4CFA-BCB7-B1F79FC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19C8-C826-4547-B511-23DA316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A65-A491-4C7D-B7ED-2DF804C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5794-9D9E-4737-96ED-46E44C9B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7DEB-BD6A-40CA-865C-C181FC8E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B657-56D9-42BC-947C-7BA37512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4324-B096-4E51-803D-FFA4EB6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7A26-536B-4049-8250-01DD991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DD91-8DF7-476F-A386-FD036EDA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ED9A-9C01-4157-BC27-4C31BC1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68E-F734-4DF3-958F-EC44AC3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4024-6D81-409A-AB20-DCD536B1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5719-176A-41F4-A71A-D7EA2F0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B68D-08FF-4FF6-AEAD-4D1EB6A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91E8-5344-4736-B0FD-53FD758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B798-75BB-46BC-B2BC-52BCA286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A6D6-C495-45B6-8288-07927BB9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FEB8-3FFD-42CB-AF00-EA8A65A7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7C3B-7C03-44B2-B1B5-8A76265D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BA14-ADC2-4264-9B12-B5007EF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403F-5402-470F-8EAA-E63678F5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6BE-EC24-4418-A906-CCE10AA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5034-9514-43C3-8161-BE24DDC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BE25-5C56-48C3-A78A-204C2CF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5585-FB68-4E12-9C6D-384DA33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CAB0-7AD3-40BD-BDB0-255A2C8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C3E6-8411-4442-BC44-FAB10A8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968E-F3EA-4532-AEBA-DBE1D3D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9AD9-242B-469E-9B50-75EEE38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CA17-584E-47DB-BD6B-4D1D0467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5503-1811-4F14-80A5-D4C289F6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3226-0B39-447A-89B3-719D438B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5CF-CC9B-4623-97C3-7848EF56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49A3-1D05-4528-839E-D1781A8D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5939-DECE-4A16-A610-DD8E035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4976-9D48-4994-8E07-4A60984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0162-C5CE-4CBB-98B8-3065D99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FF7D-B729-4DE2-9D5B-FB993BD5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F31E-163A-4CF1-91EF-D8FEFF0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DACA-10D9-457A-A8CC-3CD7199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1067-EB64-4E2C-BEA3-6B09428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4E82-702B-41BE-80C8-59FCF3A6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2857-54D9-4A4D-8B0B-03D74F7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A17-EC0D-455E-ADAE-3D05A980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0F4A-1B01-42F7-B492-78F1C210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F6-87FA-4AAA-A392-5ABFF54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10-3CBA-4526-945F-142C277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2B7-1660-4B09-8549-FD582DA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97B0A-7071-4A00-8342-06A37A7A5BB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1B616-0D28-4E8D-AF51-0EE3029CAAC6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C94DF-67EC-41BA-A63E-8B74A9B1AFC4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D656A-FE80-457C-A47E-DC3D50D58AE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3EADD-5914-4629-84E6-36FFEC221F2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ΕΝΕΙΑ ΣΤΟ ΔΙΑΔΙ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Μήτσιου Αναστασία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398160"/>
            <a:ext cx="75801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Tι μπορούμε να κάνουμε αν διαπιστώσουμε ότι κάποιος φίλος μας/συμμαθητής μας έχει πέσει θύμα διαδικτυακού εκφοβισμού</a:t>
            </a: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2377800"/>
            <a:ext cx="772308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του εκφράσουμε την υποστήριξ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αναφέρουμε το περιστατικό σε κάποιον που μπορεί να βοηθήσει – έναν γονέα ή έναν δάσκαλο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Εάν δούμε προσβλητικά σχόλια στο διαδίκτυο μπορούμε να κάνουμε αμέσως αναφορά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3" name="Εικόνα 3" descr=""/>
          <p:cNvPicPr/>
          <p:nvPr/>
        </p:nvPicPr>
        <p:blipFill>
          <a:blip r:embed="rId1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5" descr=""/>
          <p:cNvPicPr/>
          <p:nvPr/>
        </p:nvPicPr>
        <p:blipFill>
          <a:blip r:embed="rId3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73440" y="663480"/>
            <a:ext cx="7491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Ψηφιακός πολίτ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14360" y="2130120"/>
            <a:ext cx="7491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Το να είσαι καλός ψηφιακός πολίτης σημαίνει να χρησιμοποιείς την τεχνολογία υπεύθυνα με ασφάλεια, σεβασμό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Θα πρέπει να είμαστε ευγενικοί με τους άλλους στο διαδίκτυο, να σκεφτόμαστε πριν κοινοποιήσουμε και να προστατεύουμε τα προσωπικά μας στοιχεί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σεβασμός της ιδιωτικής ζωής και η τήρηση των κανόνων που θέτουν οι ενήλικες είναι επίσης σημαντικός. Είναι σημαντικό να υπάρχει ισορροπία μεταξύ του χρόνου οθόνης και άλλων Δραστηριοτήτων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ς γίνουμε καλοί ψηφιακοί πολίτες και ας κάνουμε τον ψηφιακό κόσμο καλύτερο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120" y="639720"/>
            <a:ext cx="7175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Λέξεις που χαρακτηρίζουν έναν καλό ψηφιακό πολίτη: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2095560" y="2292480"/>
            <a:ext cx="504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ευγέ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σεβ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καλοσύ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ευθυν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σορροπ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οστήρι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διω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360" y="763560"/>
            <a:ext cx="8945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1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3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131840" y="2130480"/>
            <a:ext cx="6724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ξεχνάμε ποτέ ότι στην άλλη πλευρά της ηλεκτρονικής μας συνομιλίας βρίσκεται ένας άνθρωπο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ν ιδιωτικότητα των άλλω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ν κοινοποιούμε στο διαδίκτυο φωτογραφίες κάποιου αν δεν έχουμε την έγκρισ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 γνώμη των άλλων, ακόμα κι αν δε συμφωνούμε με αυτή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ν δε συμφωνούμε με κάποιον, εκφράζουμε τη διαφωνία μας πολιτισμέ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6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22600" y="246384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4. Αποφεύγουμε τα ΚΕΦΑΛΑΙΑ γράμματα. Oι συνομιλητές μας νιώθουν πως τους υψώνουμε τη φω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5. Γράφουμε με σαφή,κατάλληλο και συνοπτικό τρόπο. Όταν επικοινωνούμε σε επίσημο ύφος, αποφεύγουμε τα greeklish, τις συντομεύσεις και τα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6. Δεν κάνουμε εμφανείς αποκλεισμούς στο κοινό μας. Δε δημιουργούμε την αίσθηση στους υπόλοιπους ότι είναι αποκομμένο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50920" y="82404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66400" y="2003040"/>
            <a:ext cx="76820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Ελέγχουμε πάντα αν, όσα μοιραζόμαστε στο διαδίκτυο, είναι έγκυρα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Αναπτύσσουμε κριτική σκέψη και εμπιστευόμαστε το ένστικτο και τη λογικ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κεφτόμαστε πρι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θέσουμε ή αποδεχτούμε κάποιον φίλο. Αν δεν θέλουμε να μείνουμε σε επαφή μαζί τους, δεν τους προσθέτουμε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δημοσιεύουμε υλικό που προστατεύεται από πνευματικά δικαιώματα στο οποίο δεν είμαστε κάτοχοι των δικαιωμάτων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Όταν στέλνουμε email σε πολλούς παραλήπτες που δεν γνωρίζονται μεταξύ τους δε δημοσιοποιούμε τις ηλεκτρονικές τους διευθύνσει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6400" y="836640"/>
            <a:ext cx="876132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01400" y="4762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01760" y="1720800"/>
            <a:ext cx="5695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Γνώ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βασιμότητα σε πληροφορί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Προστασ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πό τον εκφοβισμό και τη βί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υμμετοχή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 συζητήσεις και φόρουμ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Δικαιοσύν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αναζήτησης βοήθειας εάν αισθάνεσαι πως απειλείσαι με οποιονδήποτε τρόπ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Εκπαίδευ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στην εκπαίδευση - ενημέρωση για το τι διατίθεται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Υγε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ναπαραμείνετε υγιείς σωματικά και ψυχικά ενώ αλληλεπιδράτε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8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520" y="596880"/>
            <a:ext cx="8575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5880" y="1720800"/>
            <a:ext cx="61372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υς άλλου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ην παρεμποδίζετε τα βασικά δικαιώματα των άλλων ή με οποιονδήποτε τρόπο συμμετέχετε σε συμπεριφορά που είναι επιβλαβής για τους άλλου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ν εαυτό σα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έπει να γνωρίζετε το ψηφιακό αποτύπωμά σας και πώς αυτό επηρεάζει τον τρόπο με τον οποίο σας αντιλαμβάνονται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3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01400" y="58896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ι μπορούμε να κάνουμε αν κάτι μας ενοχλήσει/αναστατώσει στο διαδίκτυο;</a:t>
            </a:r>
            <a:br>
              <a:rPr sz="3600"/>
            </a:b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98080" y="1720800"/>
            <a:ext cx="757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διακόψουμε αμέσως την επικοινωνία και να αποκλείσουμε τα μηνύματα ή το προφίλ που μας ενόχλησε/αναστάτωσε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μιλήσουμε με κάποιον που εμπιστευόμαστε, τους γονείς μας, έναν δάσκαλο ή έναν άλλο ενήλικ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Nα τραβήξουμε ένα στιγμιότυπο οθόνης και να κρατήσουμε τα στοιχεί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Να κάνουμε αναφορά στον ιστότοπο/εφαρμογή/μέσω κοινωνικής δικτύωσης/διαδικτυακό παιχνίδι αν αντιμετωπίσουμε διαδικτυακό εκφοβισμό, αγενές ή ψευδές περιεχόμενο, παρενόχληση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15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8" name="Εικόνα 3" descr=""/>
          <p:cNvPicPr/>
          <p:nvPr/>
        </p:nvPicPr>
        <p:blipFill>
          <a:blip r:embed="rId1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5" descr=""/>
          <p:cNvPicPr/>
          <p:nvPr/>
        </p:nvPicPr>
        <p:blipFill>
          <a:blip r:embed="rId3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16:44Z</dcterms:modified>
  <cp:revision>139</cp:revision>
  <dc:subject/>
  <dc:title>Παρουσίαση του PowerPoint</dc:title>
</cp:coreProperties>
</file>